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AD7-E850-4F2D-BAE3-1CD1E9CA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DFD-FA60-456F-A2DF-6BE9394C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651-F4AD-44BE-A0D8-FD14B645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F4D-8944-4EE2-9045-4D945894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F7A-6937-4FBB-B22E-25296A3A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340-D1A8-4D88-B326-6FAEAC28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A22-983F-4B68-BFDF-D1498DD3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99C-6BC1-4A99-9BAE-83020947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164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E43-8900-45BA-B29A-E6EF28BF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C20-287A-4C5D-B68A-21F31DF4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775-A56B-4946-A053-E3EDBBBB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F5F-EF7C-4C2F-BA8E-094728A8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5165280"/>
            <a:ext cx="319500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23ACDF-CCE9-4915-954E-E91D8FD8F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Rishit</dc:creator>
  <dc:description/>
  <dc:language>en-US</dc:language>
  <cp:lastModifiedBy/>
  <dcterms:modified xsi:type="dcterms:W3CDTF">2006-08-16T00:00:00Z</dcterms:modified>
  <cp:revision>0</cp:revision>
  <dc:subject/>
  <dc:title/>
</cp:coreProperties>
</file>