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933-EFB5-4A3E-9035-9F99C46F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B98-5DC9-4D4D-A37E-E28E9451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0C0-1EDD-4101-AE1D-19A90F8B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47B-39C9-40C0-967E-FE4684FB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675-2FE6-4AEA-9AF9-DBE1DA77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780-2634-41D2-AC84-7EB7AA75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D66-A152-40A7-8CEF-F5F1AD9A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B0E-9CBA-4642-9EF0-6BC7B188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164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C1A-F1D8-45A1-8CE9-F5A852CB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343-A6DE-471B-97D7-1B235716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6AB-26BE-4764-BB4C-554A8796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478-B33D-432A-AF9F-FE6227D9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5165280"/>
            <a:ext cx="31950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16A80E-5378-4C59-8B9E-68C5DD576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Rishit</dc:creator>
  <dc:description/>
  <dc:language>en-US</dc:language>
  <cp:lastModifiedBy/>
  <dcterms:modified xsi:type="dcterms:W3CDTF">2006-08-16T00:00:00Z</dcterms:modified>
  <cp:revision>0</cp:revision>
  <dc:subject/>
  <dc:title/>
</cp:coreProperties>
</file>